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6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B29E-7C12-4AE4-AD80-BAED8CCF5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E) support a point of view on a social studies issue or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 services, biographies, interviews, and artifacts to acquire information about Texa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outlines, reports, databases, and visuals including graphs, charts, timelines,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libraries.uta.edu/ccon/scripts/ShowMap.asp?accession=G1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C) analyze the effects of the changing population distribution in Texas during the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2 (A) explain economic factors that led to the urbanization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2 (B) trace the development of major industries that contributed to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rban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2 (C) explain the changes in the types of jobs and occupations that have resulted from the urbanization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 analyze the impact of economic phenomena within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ee enterprise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upply and demand, prof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government regulation, and world competition on the economy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A) compare types and uses of technology,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C) analyze the effects of scientific discoveries and technological innovations, such as barbed wire, the windmill, and oil, gas, and aerospace industries, on the developments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C) analyze the effects of the changing population distribution in Texas during the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B) compare places and regions of Texas in terms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hysical and human characterist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C) analyze the effects of physical and human factors such as climate, weather, landforms, irrigation, transportation, and communication on major events in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why immigrant groups came to Texas and where they sett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analyze how immigration and migration to Texas in the 1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ies have influenced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9 (A) explain how the diversity of Texas is reflected in a variety of cultural activities, celebrations, and perform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9 (B) describe how people from selecte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cial, ethnic, and religious grou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empt to maintain their cultural heritage while adapting to the larger Texas cul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A) compare types and uses of technology,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C) analyze the effects of scientific discoveries and technological innovations, such as barbed wire, the windmill, and oil, gas, and aerospace industries, on the developments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D) evaluate the effects of scientific discoveries and technological innovations on the use of resources such as fossil fuels, water, and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E) analyze how scientific discoveries and technological innovations have resulted in an interdependence among Texas, the United States, an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9 (A) explain how the diversity of Texas is reflected in a variety of cultural activities, celebrations, and perform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9 (B) describe how people from selecte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cial, ethnic, and religious grou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empt to maintain their cultural heritage while adapting to the larger Texas cul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84B5-4E3F-4BF0-81FD-4AFC13BA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8C7-0DD5-416F-ACBE-65157D74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A17-C0AF-4EC4-B67C-CB222C71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525-2CBD-4692-BC04-2050C88F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0D0-910D-4FF8-BB7E-89AAC47B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1A6-4DDA-400F-B1AF-51E4D29B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595-733B-4B46-B41E-BC808F14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FC6-CAE5-40B0-B358-1EFA0E54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727-B465-4314-80F9-A858CB8F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468-7975-4E3D-ABAE-2903ED6A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F0E-CC9E-482E-9F7F-FCFA4E50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E4D-1802-46F3-AE9B-794859B0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864C-965F-4E33-B20A-AD0A479BF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6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49416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1524b1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8520" y="1442880"/>
            <a:ext cx="83818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840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e and Contr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5080" y="1374840"/>
            <a:ext cx="7437600" cy="27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imilarities are there between Texas in 1918 and Texas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ifferences are there between Texas in 1918 and Texas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ould your life be different if you lived in Texas in 1918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44520" y="4273560"/>
            <a:ext cx="6678720" cy="2381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95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1524b1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1524b1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Studies 1 -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process of urban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guish the difference between urban and rural enviro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 the relationship between urbanization and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840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Texas like in 1918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0760" y="2035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 in Texas in 1918 was becoming closer to the Texas we know to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ere to draw a picture of Texas in 1918, what would it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63920" y="2241720"/>
            <a:ext cx="4343400" cy="301464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840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Roads in 19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5764" r="0" b="6482"/>
          <a:stretch/>
        </p:blipFill>
        <p:spPr>
          <a:xfrm>
            <a:off x="1760400" y="1333440"/>
            <a:ext cx="5769000" cy="520056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32120" y="5848200"/>
            <a:ext cx="337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to the C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5120" y="1371240"/>
            <a:ext cx="8323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newer machinery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ing, fewer people we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to work on farm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moved to cities to f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opportunities.  Man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moved from rural are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he cities.  This move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ban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ies near ports, like Houston,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re popular because of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y to work in oi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ries and factori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0" r="0" b="18482"/>
          <a:stretch/>
        </p:blipFill>
        <p:spPr>
          <a:xfrm>
            <a:off x="5667480" y="1565280"/>
            <a:ext cx="3089160" cy="404028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5676480" y="5676840"/>
            <a:ext cx="23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me.sprynet.com/~lcseiler/ houarnd5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 in the 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8120" y="1355400"/>
            <a:ext cx="8294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 sudden flood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to the citie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crowding caused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deal of discomf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produced so muc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sh and waste that cit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me filthy and unsanit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as not enough water or housing for the people in the cities.  Many people had to live in temporary housing in the streets until they could find a better place to liv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25920" y="1496880"/>
            <a:ext cx="3240360" cy="264816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0520" y="1275840"/>
            <a:ext cx="8570880" cy="53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other people were moving t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as to take advantage of job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portunities.  People were coming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Texas from around the worl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xico:  People settled i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 the San Antonio and Ri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d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:  People became farme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entral Texas Hill Countr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:  People originally cam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s to work on the railroad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(Czechs, Irish, Italians):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farmed in Central Tex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alveston was the main port for people to enter into Texa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8240" y="1538280"/>
            <a:ext cx="3105000" cy="386712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i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92240" y="159984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f our daily conveniences were new in 191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s were becoming popular in many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homes in cities had electricity for lighting, but no air conditi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cities were just getting electric street light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nveniences would you miss if you lived in 1918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8288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1440" y="5945040"/>
            <a:ext cx="30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http://www.atcaonline.com/phone/photos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90560" y="1789200"/>
            <a:ext cx="2417760" cy="409104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id people do for fu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9840" y="1563840"/>
            <a:ext cx="8380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 invention of so many new industrial advances and machinery, people had more time to have fu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in 1918 enjoy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se 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r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ater and silent movi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51520" y="3255840"/>
            <a:ext cx="3429000" cy="252108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22:21:42Z</dcterms:created>
  <dc:creator>Vince Hardy</dc:creator>
  <dc:description/>
  <dc:language>en-US</dc:language>
  <cp:lastModifiedBy>ljlab</cp:lastModifiedBy>
  <dcterms:modified xsi:type="dcterms:W3CDTF">2008-12-10T18:43:57Z</dcterms:modified>
  <cp:revision>12</cp:revision>
  <dc:subject/>
  <dc:title>Slide 1</dc:title>
</cp:coreProperties>
</file>